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2EA-1990-405A-B23E-0544E79A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FF4-C948-4219-BE25-37F234AF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63B-0156-460A-8BCE-974FC3DA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AF1-463F-4BFD-A04F-FB431061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612-58D8-4317-BE5C-5FC266FA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8956-5AF1-4794-8207-B5F3202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1F40-805A-4D11-835B-08F122A9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51B-EC39-46BF-870E-055A965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E944-C0E4-4F34-A851-0C359DDD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1C3-ED24-4ABF-B26F-28F74FEA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367-229E-4918-9AA4-E0BE049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440-D82F-435F-A42B-C6AD8D3E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0F8F-D7A3-4C12-824E-74CE686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FA4-3E3B-4A3F-A67E-6594070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7C3-3C7F-4566-837D-9DEDD5A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F9C-01B7-4448-B125-B9CC5F21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A554-2020-41CC-8156-7C75013D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F15-BAF7-4301-9753-258843F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5AE-0803-41C8-8643-A9782933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B45-274F-4577-B297-43D99215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E46-C0EC-4B23-848E-0B2FD76C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980-7B31-4F06-A968-DE76A389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6F9-98D3-43A8-8616-732320A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715-0494-429B-A614-E58CF37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ECB9-067F-4592-9F5B-3BED38126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698-7A97-474F-A1F4-658AACBD2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Children Of The Sea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roadway"/>
              </a:rPr>
              <a:t>By :</a:t>
            </a:r>
            <a:r>
              <a:rPr b="0" lang="en-US" sz="30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Broadway"/>
              </a:rPr>
              <a:t>Gabriela Aliz Gonzalez ( 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About The Book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The book was published in the year of 1993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Edwidge Denticat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21066600">
            <a:off x="5943600" y="2590560"/>
            <a:ext cx="214308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aitian-flag.gif Haitian Flag image by j7864life"/>
          <p:cNvPicPr/>
          <p:nvPr/>
        </p:nvPicPr>
        <p:blipFill>
          <a:blip r:embed="rId2"/>
          <a:stretch/>
        </p:blipFill>
        <p:spPr>
          <a:xfrm>
            <a:off x="838080" y="3429000"/>
            <a:ext cx="32673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Characters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Boy – Trapped in a boat with 36 other suffering waiting to see “Girl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Girl – Stuck in Haiti ,stressed out waiting to see “Boy”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Madam Rogers – An older woman who is stuck  in Haiti , finds out that her son got killed and goes to collect his head 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etting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This book takes place in two settings in Haiti &amp; on a boat 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Plot .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This book is about a young boy &amp; girl that are separated because the Haitian Milita decides to take over &amp; kill their population . The boy has to go on a boat and the girl has to stay in Haiti . They write letters to each other but don’t send them they keep them aside when they see each other again . Both the boy &amp; girl go through and see horrible thing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13336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roadway"/>
              </a:rPr>
              <a:t>Opinion 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My opinion of this book is that its very sad and it makes you think what people actually went threw. The story didn’t have an ending but if I had to make an ending myself I would want the boy and girl to be with each other forever :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 Unicode MS"/>
              </a:rPr>
              <a:t>Thanks , Hope You Liked It – x3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 . German Period 6 Class Add Day WOOP :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8:34:56Z</dcterms:created>
  <dc:creator>Administrator</dc:creator>
  <dc:description/>
  <dc:language>en-US</dc:language>
  <cp:lastModifiedBy>Administrator</cp:lastModifiedBy>
  <dcterms:modified xsi:type="dcterms:W3CDTF">2010-10-20T19:02:30Z</dcterms:modified>
  <cp:revision>2</cp:revision>
  <dc:subject/>
  <dc:title>  Children Of The Sea </dc:title>
</cp:coreProperties>
</file>